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8314-01D6-4468-953E-1360B6B591D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online, asynchronous meeting is jam-packed with important information.  It has being presented in this format for your convenience.  I encourage you to review it with your colleagues.  You should be able to move through the PowerPoint and complete the Google Survey within 1 hour (including time for conversation).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participation in this ‘meeting’ is important and your contributions to the health of the program are invaluable.  Thank you for taking time to work through this process!</a:t>
            </a:r>
            <a:endParaRPr b="0" lang="en-US" sz="18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E640-F7A1-4A77-9DB2-9196FA9E1C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some ways we are disseminating the information.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now &amp; the April Middle/High Department chair meeting we will be focusing on Placement Assessment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amp; High folks will need to establish communication practices that will ensure students progress through the curriculum appropriately.</a:t>
            </a:r>
            <a:endParaRPr b="0" lang="en-US" sz="18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4066-E8AD-4635-A8D1-10CA5BDBE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cern has been addressed with NC DPI.  Colleges and Universities will look for success on a transcript that reflects growth toward advanced artistic skill.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view the Frequently Asked Questions document for additional information</a:t>
            </a:r>
            <a:endParaRPr b="0" lang="en-US" sz="16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Ask any additional questions in the Google Survey</a:t>
            </a:r>
            <a:endParaRPr b="0" lang="en-US" sz="16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D81A-F925-4343-9E70-E9D39D120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should have received an email that includes:</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ssential Standards Spreadsheet </a:t>
            </a: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 Can” documents (PDFs) for all arts content areas</a:t>
            </a:r>
            <a:endParaRPr b="0" lang="en-US" sz="18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 to start your thinking about a common placement tool</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72441-B424-40EE-9CD9-B0EA80D19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D9D1B-F022-4BA0-AAD4-7255AEFB3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9EDA-3B92-4D6A-9384-55FF91CAA7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versions of an Arts Advisory Board address immediate issues and then were disbanded (like the Co-Curricular Band philosophy statemen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the urging of a school board member, we are trying to establish a comprehensive advocacy group – one that reaches beyond the boundaries of our school system and includes community partners.</a:t>
            </a:r>
            <a:endParaRPr b="0" lang="en-US" sz="18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8C48E-9B61-4FF7-852D-3AE1D7CF8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e Arts Advisory Board is listed.</a:t>
            </a:r>
            <a:endParaRPr b="0" lang="en-US" sz="18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3467-81AD-452E-A031-63E8AD564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 moment to review the recommended membership of the group.  I understand that it is particularly challenging to have a large, representative advisory board and really accomplish anything significant.  Additionally, I am sensitive to the significant strain on everyone’s schedule so our meetings would be strategically planned and conducted efficiently.  Some might be held virtually through an online tool like Go to Meeting or Wimba.  </a:t>
            </a:r>
            <a:endParaRPr b="0" lang="en-US" sz="18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874D8-B4A9-44DE-9194-2C2307873B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part of completing this online department chair meeting you will be emailed a Google Survey from Artsedwakeartsed@gmail.com</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m asking you to complete this survey with input from your departmental colleagues.  Specific questions will be included in the google survey regarding this advisory board.</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F636-7CAD-4EB4-B965-6A4AFEA18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2 ways to get 1.0 units of renewal credit in Literacy if you need it.</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module that is listed on the Arts Wiki has been successfully completed by a number of secondary staff members.  You can access it by going to the wiki to see what is inv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arts-education-wake.wikispace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o to Literacy in the Arts in the left column.  You can review attachments as well to see the work of your colleag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iteracy for the 21</a:t>
            </a:r>
            <a:r>
              <a:rPr b="0" lang="en-US" sz="1200" spc="-1" strike="noStrike" baseline="30000">
                <a:solidFill>
                  <a:srgbClr val="ffffff"/>
                </a:solidFill>
                <a:latin typeface="Calibri"/>
              </a:rPr>
              <a:t>st</a:t>
            </a:r>
            <a:r>
              <a:rPr b="0" lang="en-US" sz="1200" spc="-1" strike="noStrike">
                <a:solidFill>
                  <a:srgbClr val="ffffff"/>
                </a:solidFill>
                <a:latin typeface="Calibri"/>
              </a:rPr>
              <a:t> Centur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lassroom Theory &amp; Practice SRN 127509401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ace-to-Face &amp; Onlin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is course is one that has been developed by the Academic staff  - it includes a Face-to-Face session (either 2/28/12 from 4-6 or 3/7/12 from 4-6) then a general section and a classroom implementation s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ither are manageable.  If you need help – let me know!</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12DC-EA1E-4381-9136-035D98C397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read hundreds of Interpretation Charts that were posted as a part of the Day 3 module.  Many were very strong.  These interpretation charts could be a resource for Cmapp.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ntent areas (e.g. Social Studies) are asking High School Dept. Chairs to gather their responses (like your interpretation charts) and give them to the Assistant Principals for Instruction - Arts/World Language &amp; Healthful Living only asked for online posting.  It is possible that the APIs might ask me for a list of those who have completed the task (interpretation chart) so if you haven’t had a chance to post yours - you might want to do that by March 1s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let me know your thoughts about the online RttT module –things that worked well &amp; recommendations for improvemen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 - Literacy Strand - is posted on the Blackboard - Module # 5 will be posted by the end of February.  You have until the end of April to complete these for cred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mail associated with this PowerPoint you’ve received the Essential Standards Spreadsheet and “I Can” statements that provide benchmarks that clarify expectations for growth.  Please review your own instructional plans to ensure your students “Can” demonstrate the identified skill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in the Google Survey will address your need for support regarding Common Core/Essential Standards.  You might want to look at the spreadsheet &amp; I Can statements before completing the google survey.</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EC21-9051-408D-88FA-BCE2FD21F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Academics division is considering offering a 2-day Summer Institute to support the implementation of Common Core / Essential Standards.  Please respond to the question in the Google survey to give us an idea of your needs &amp; level of interest.  Please note – response to this question does not obligate you.  </a:t>
            </a:r>
            <a:endParaRPr b="0" lang="en-US" sz="18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74E3-7218-4588-928A-0E2A27D4A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review this PowerPoint with your departmental colleague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completing the Online Essential Standards in the Arts modules together.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00E6-1B68-4ABE-B4A1-9DC877D8C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w – we covered a lot of ground today.  You can see that this “meeting” was really necessary.</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I do not “police” your participation, we are expected to report “attendance” to principals.  By completing the Google Survey – you will meet those expectation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do not hesitate to contact me via email if you need additional support.</a:t>
            </a:r>
            <a:endParaRPr b="0" lang="en-US" sz="18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B8DD-B4AC-4AEE-ADC3-67989E9A2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has 3 objectives - to build awareness about the changes - talk about the challenges &amp; benefits and highlight the implications for teachers students and guidance staff regarding these change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 identify some mechanisms we are putting in place for suppor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I’ll try to answer your question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was presented to High School Deans on 2/14/12.</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School Folks – don’t dismiss this section </a:t>
            </a:r>
            <a:r>
              <a:rPr b="0" lang="en-US" sz="1800" spc="-1" strike="noStrike">
                <a:solidFill>
                  <a:srgbClr val="000000"/>
                </a:solidFill>
                <a:latin typeface="Arial"/>
              </a:rPr>
              <a:t>– you need to know what is happening and understand that - MORE THAN EVER – you will need to know how to prepare your students and High School arts staff will need your input on proper placement.</a:t>
            </a:r>
            <a:endParaRPr b="0" lang="en-US" sz="18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6A33-8AD3-455E-9187-2ECB60EC7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s we are experiencing in the Arts are significant and being implemented quickly.  Complicating the situation is the fact the timing has not been ideal (quick &amp; late) and that these changes have not yet been approved by the State Board of Education. We hope (and expect) them to be approved in March.  If not, we can expect an avalanche of chaos.  A number of Middle &amp; High School courses were being end-dated on NCWise so we have taken the new numbers they sent and incorporated them into our current guide - from here we’ll hope for the bes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being aligned to the new Essential Standards will be a great benefit - the curriculum is new to arts staff and more than ever they will need to work across grade spans - elementary to middle to high to ensure students are prepared for future succes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like everyone who is trying to maintain their previous standards of excellence with fewer resources, school-based staff members (particularly the arts staff ) are exhausted - they are passionate and invest in their students - we are draining them and they will benefit from some grace &amp; encouragemen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8C7D-6B68-4A5E-AB1D-C8524F9442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I, II, III, IV have been redirected to (1) Beginning, (2) Intermediate, (3) Proficient, and (4) Advanced to align with the new Essential Standards curriculum.  Any course deemed at level 3-Proficient or 4-Advanced is inherently rigorous, considered Honors, and awards students weighted credit.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pproved, the previous limit of 2 Honors credit will be lifted and students who are taking classes at the proficient and advanced levels will be able to receive weighted credit every time they take it</a:t>
            </a:r>
            <a:endParaRPr b="0" lang="en-US" sz="1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de variety of arts electives, beyond the standard I, II, III, IV, have been re-coded as specialty courses.  These courses were coded to a level based on recommended pre-requisites so some were designated as Proficient &amp; Advanced - meaning they will receive honors credit.  For example:</a:t>
            </a:r>
            <a:endParaRPr b="0" lang="en-US" sz="1800" spc="-1" strike="noStrike">
              <a:solidFill>
                <a:srgbClr val="000000"/>
              </a:solidFill>
              <a:latin typeface="Calibri"/>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ulpture/Ceramics I - recommended pre-requisite = Art I or portfolio ---&gt; Specialty Visual Art intermediate</a:t>
            </a:r>
            <a:endParaRPr b="0" lang="en-US" sz="1800" spc="-1" strike="noStrike">
              <a:solidFill>
                <a:srgbClr val="000000"/>
              </a:solidFill>
              <a:latin typeface="Calibri"/>
            </a:endParaRPr>
          </a:p>
          <a:p>
            <a:pPr lvl="3" marL="13716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ulpture/Ceramics II - recommended pre-requisite = Sculpt/Cer I ---&gt; Specialty Visual Art proficient (honor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ulpture/Ceramics III - recommended pre-requisite = Sculpt/Cer II ---&gt; Specialty Visual Art advanced (honor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ange #4</a:t>
            </a:r>
            <a:r>
              <a:rPr b="0" lang="en-US" sz="1800" spc="-1" strike="noStrike">
                <a:solidFill>
                  <a:srgbClr val="000000"/>
                </a:solidFill>
                <a:latin typeface="Arial"/>
              </a:rPr>
              <a:t> – Students (e.g. Freshmen) who have had a complete K-8 progression in the Arts (e.g. Elementary general music &amp;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dle school band) or who have achieved beginning level standards based on portfolio review and/or audition, may sign up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termediate level courses.  Until NC DPI establishes placement criteria, each arts content area will be asked to determine an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skills placement assessment that can be available for districtwide use.  For example, students may be expected to</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a particular “grade” of music with “x” number of errors.  The standards will serve as our guide as they indicate a clear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on of demonstrable skills and understandings.  </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are instance that a student can demonstrate achievement of the standards, he/she may be placed in an upper level course.   The consistent use of placement assessments, based on the essential standards, will help navigate this process.</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imately, each individual teacher will be have the responsibility</a:t>
            </a:r>
            <a:endParaRPr b="0" lang="en-US" sz="1800" spc="-1" strike="noStrike">
              <a:solidFill>
                <a:srgbClr val="000000"/>
              </a:solidFill>
              <a:latin typeface="Calibri"/>
            </a:endParaRPr>
          </a:p>
          <a:p>
            <a:pPr lvl="2"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uide students to sign up at the appropriate level.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r>
              <a:rPr b="1" lang="en-US" sz="1800" spc="-1" strike="noStrike">
                <a:solidFill>
                  <a:srgbClr val="000000"/>
                </a:solidFill>
                <a:latin typeface="Arial"/>
                <a:ea typeface="Calibri"/>
              </a:rPr>
              <a:t> </a:t>
            </a:r>
            <a:endParaRPr b="0" lang="en-US" sz="1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level courses in the Arts will be recognized for their rigor and award honors credit as often as they are taken.  Students will no longer be forced to give up the Arts because of the limit of 2 honors credits.</a:t>
            </a:r>
            <a:r>
              <a:rPr b="1" lang="en-US" sz="1800" spc="-1" strike="noStrike">
                <a:solidFill>
                  <a:srgbClr val="000000"/>
                </a:solidFill>
                <a:latin typeface="Arial"/>
              </a:rPr>
              <a:t>   </a:t>
            </a:r>
            <a:r>
              <a:rPr b="0" lang="en-US" sz="1800" spc="-1" strike="noStrike">
                <a:solidFill>
                  <a:srgbClr val="000000"/>
                </a:solidFill>
                <a:latin typeface="Arial"/>
              </a:rPr>
              <a:t>Students who take coursework at the Proficient and Advanced levels are applying their skills and understandings in increasingly sophisticated complex and challenging ways, demonstrating their ability, commitment, and artistry.</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E18C-3D7B-49E0-9DC8-D3A2C56A66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 credit will no longer be available for levels 3 &amp; 4 of any arts clas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ious sequences - Juniors/Seniors - make the choice that is best for the student</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ster schedule may need some tweaking but remember - arts teachers are masters at differentiating.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ibility for placement will be the teacher’s - they will need your support.  The greatest level of support comes from communication between guidance and the arts staff to build a common understanding of the challenges faced in scheduling (by both sides) and make strategic choices that are in the best interest of the students. </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change can be difficult, but collaboration between the Arts teachers and the Guidance staff will certainly help.  Remember students may repeat Arts courses for credit (including honors levels).  Additionally, arts classes are often differentiated to meet the needs of students at various skill level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C26B-5D52-40C3-ADAC-86B2F9304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elp facilitate this change we are a Frequently Asked Questions document, Course sequencing charts, Standards Spreadsheet, “I Can” documents that will help drive the conversations between middle &amp; high teachers</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NCDPI creates some common assessments, we will need to develop our own locally but we have the information within the standards.  I hope these conversations will become a part of the content specific PLTs over the next few months.  It is possible, in the very near future, that students will tested on the skills listed in the standards - and their performance will be reflected in Standard 6 of the teacher evaluation instrument as an indicator of teacher effectiveness - so Placement and attention to the objectives in the standards is IMPORTANT! </a:t>
            </a:r>
            <a:endParaRPr b="0" lang="en-US" sz="18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C5B11-7A99-4839-9D3D-82EEAF6C6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8861C-8648-467A-836D-0B7D757F7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ABAF3-F23F-4593-B0C6-1C04E3410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A2261-B104-486A-9EA8-FBD8BA84B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FD26E-D1E2-4AFF-A62A-FFEE32835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0E9A1-F65F-4D38-B5A2-A35246E356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49756-459B-41D9-B01A-644F69081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61431-CB5E-422F-9548-27078DAD2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EF6AB-72C7-4350-B0AA-A259BD87E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C846C-4ED2-4895-BC8D-7A046EE18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15398-53F3-4156-88ED-614233C1C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3F0E8-9D44-4B67-A815-244A86A7C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CD9D2-57B6-4F72-BC76-289A52252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3A3B2-C234-4875-826F-8EE70F100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C3619-91DE-402F-B55B-782D9FA7B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BB491-FBE0-46E1-BB5F-6E0E053297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D5EC9-DBFF-4251-8DBE-3E54EC6B5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4BE94-474E-4821-86E1-023C480D5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C26E04-A884-4D61-9597-AE43D0D74F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6EBEA-1EA2-454C-B02B-62407EC183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88A9CC-5BCC-44AC-B75B-71282CC72F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AD6912-DFCF-40E8-8819-6C97D833D9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BCEDA4-F646-43FE-A147-172B1C9353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25FE9-D0F7-4700-B64B-97DB822DC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94DBE-B385-4290-B88A-DF4AAEEB1F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E1895-E24C-4F43-A6E9-D30D6D947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FFE78-772F-4F6C-B781-082DAB82D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71CEB-1981-4479-853C-279DF7FFA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B5A29-9053-48BF-B87D-6A8317DFE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D36A9A-E26F-427F-B2A8-3E43A5B30D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D0BFB4-1622-4FC3-9EF3-B5ED0C9E78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E0D4BD-C87C-49C6-9853-DC346A914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4A7E1-264E-40C4-839D-521D8297B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22359-6923-42CE-8BE1-C0D2BEDB8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E71E8-8D2C-484B-A432-48DD80020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CA0E29-D15E-430A-B9F4-03DB3E1250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70CA2-333A-4088-BB5E-488C2BBD42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C7542-74EE-43AD-BD1B-B4C036BD7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A5E7A-59A3-4F7B-9AD6-23A46345A8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8646D6-47D7-4AF2-BE3C-EEA5E3652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00424-7CD8-4E98-8B2A-5CBC4050A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400435-11D5-440C-BB36-EADE419440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2B67EC-924B-4DF7-B416-197F93B3DC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F4F0CA-E77B-411D-BFAF-4711B617BD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764F01-AAC1-4286-BD8B-6E0364B50B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FCA88-4B1C-4DF0-915E-F757534EE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A929F-B81E-470F-A62E-C46728E807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1B99A-7164-4798-AD2B-CECA6E3CD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6ACA49-57B2-41A8-AE85-5283547FF5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F790A9-6A91-4CA1-9F75-6CF64B80E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9639B-274E-483A-83E4-58FF05E9C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9FDBE-5FF1-4A7D-82A8-E466D650D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436F5-028B-4CCD-B3B6-59DEC8FFF7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14F91C-55D3-44F0-A0F3-BE8736290D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7F087-7A95-4AFD-B606-7D06E2052F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B65E0B-D6D7-4A4D-9BA7-BA90A5A331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B127A-ABF4-47F1-A15E-651B8BBF9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A21EE6-FA14-4229-B6CE-7CDC977E0A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B896B-2732-4F77-8A92-61A6B9312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ADB63-8E3F-4FA4-8E42-AE00276C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D78C-4523-4A6E-951F-A2C8E6439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DDA7-293F-438B-B917-AF978C7534CF}"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9BB2-4610-413D-9850-F627268BEB13}"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A66D4-519C-4842-8A1C-870580866BF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6B1F-6AFB-4934-BEF6-837642D5DC94}"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1C2F-9B90-4FE8-ACB4-F0376F6D54F8}"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8" name="TextBox 5"/>
          <p:cNvSpPr/>
          <p:nvPr/>
        </p:nvSpPr>
        <p:spPr>
          <a:xfrm>
            <a:off x="380880" y="457200"/>
            <a:ext cx="2210040" cy="57999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Middle &amp;</a:t>
            </a:r>
            <a:endParaRPr b="0" lang="en-US" sz="32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High </a:t>
            </a:r>
            <a:endParaRPr b="0" lang="en-US" sz="32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Dept. Chair Meeting</a:t>
            </a:r>
            <a:endParaRPr b="0" lang="en-US" sz="3200" spc="-1" strike="noStrike">
              <a:solidFill>
                <a:srgbClr val="000000"/>
              </a:solidFill>
              <a:latin typeface="Arial"/>
            </a:endParaRPr>
          </a:p>
          <a:p>
            <a:pPr algn="ct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3f9a"/>
                </a:solidFill>
                <a:latin typeface="Georgia"/>
              </a:rPr>
              <a:t>2/14/12</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4"/>
          <p:cNvSpPr/>
          <p:nvPr/>
        </p:nvSpPr>
        <p:spPr>
          <a:xfrm>
            <a:off x="2971800" y="762120"/>
            <a:ext cx="5564160" cy="565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ssion Objectives: </a:t>
            </a:r>
            <a:endParaRPr b="0" lang="en-US" sz="24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on Core/Essential Standards Updates</a:t>
            </a:r>
            <a:endParaRPr b="0" lang="en-US" sz="22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crease understanding about New Course Codes</a:t>
            </a:r>
            <a:endParaRPr b="0" lang="en-US" sz="22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ment of an Arts Advisory Board </a:t>
            </a:r>
            <a:endParaRPr b="0" lang="en-US" sz="22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gistics </a:t>
            </a:r>
            <a:endParaRPr b="0" lang="en-US" sz="22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cy credit</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mmer Curriculum Institute</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sharing with school-based colleagu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212760" y="317520"/>
            <a:ext cx="7493040" cy="1150920"/>
          </a:xfrm>
          <a:prstGeom prst="rect">
            <a:avLst/>
          </a:prstGeom>
          <a:ln w="0">
            <a:noFill/>
          </a:ln>
        </p:spPr>
      </p:pic>
      <p:sp>
        <p:nvSpPr>
          <p:cNvPr id="248"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Department Chair Meetings - Online - Feb/April</a:t>
            </a: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fessional Learning Teams</a:t>
            </a: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NCDPI - Wiki</a:t>
            </a: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rts Education – Wiki</a:t>
            </a:r>
            <a:endParaRPr b="0" lang="en-US" sz="2600" spc="-1" strike="noStrike">
              <a:solidFill>
                <a:srgbClr val="000000"/>
              </a:solidFill>
              <a:latin typeface="Trebuchet MS"/>
            </a:endParaRPr>
          </a:p>
          <a:p>
            <a:pPr marL="272880" indent="-272880">
              <a:lnSpc>
                <a:spcPct val="100000"/>
              </a:lnSpc>
              <a:spcBef>
                <a:spcPts val="601"/>
              </a:spcBef>
              <a:spcAft>
                <a:spcPts val="1800"/>
              </a:spcAft>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gle Survey Question</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17520"/>
            <a:ext cx="7493040" cy="1150920"/>
          </a:xfrm>
          <a:prstGeom prst="rect">
            <a:avLst/>
          </a:prstGeom>
          <a:ln w="0">
            <a:noFill/>
          </a:ln>
        </p:spPr>
      </p:pic>
      <p:sp>
        <p:nvSpPr>
          <p:cNvPr id="250"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1)  Transcript …How will colleges view the repeated courses?</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requently Asked Questions document</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sk any additional questions in the Google Survey</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212760" y="317520"/>
            <a:ext cx="7493040" cy="115092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ing the Essential Standards Spreadsheet and the “I Can” documents for your content area </a:t>
            </a: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ider the Placement Sample in the next 2 slides and respond in the Google Survey</a:t>
            </a: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e these documents for </a:t>
            </a:r>
            <a:r>
              <a:rPr b="1" lang="en-US" sz="2600" spc="-1" strike="noStrike" u="sng">
                <a:solidFill>
                  <a:srgbClr val="000000"/>
                </a:solidFill>
                <a:uFillTx/>
                <a:latin typeface="Trebuchet MS"/>
              </a:rPr>
              <a:t>future discussions </a:t>
            </a:r>
            <a:r>
              <a:rPr b="0" lang="en-US" sz="2600" spc="-1" strike="noStrike">
                <a:solidFill>
                  <a:srgbClr val="000000"/>
                </a:solidFill>
                <a:latin typeface="Trebuchet MS"/>
              </a:rPr>
              <a:t>and development within your content area PLT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212760" y="378000"/>
            <a:ext cx="7493040" cy="138420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Using your “I Can” documents and/or your Essential Standards Spreadsheet …</a:t>
            </a: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view the expectations of the Middle Grades curriculum and consider how you would verify student performance (i.e. recommendations) to your high school colleagu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ll have an opportunity to respond in the Google Surve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78000"/>
            <a:ext cx="7493040" cy="138420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Using your “I Can” documents and/or your Essential Standards Spreadsheet …</a:t>
            </a:r>
            <a:endParaRPr b="0" lang="en-US" sz="2600" spc="-1" strike="noStrike">
              <a:solidFill>
                <a:srgbClr val="000000"/>
              </a:solidFill>
              <a:latin typeface="Trebuchet MS"/>
            </a:endParaRPr>
          </a:p>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view the expectations of the High School/Beginning curriculum and consider what information you need from your middle school colleagues to help place students appropriately</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u’ll have an opportunity to respond in the Google Survey</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subTitle"/>
          </p:nvPr>
        </p:nvSpPr>
        <p:spPr>
          <a:xfrm>
            <a:off x="3429000" y="914040"/>
            <a:ext cx="4495680" cy="5181480"/>
          </a:xfrm>
          <a:prstGeom prst="rect">
            <a:avLst/>
          </a:prstGeom>
          <a:noFill/>
          <a:ln w="0">
            <a:noFill/>
          </a:ln>
        </p:spPr>
        <p:txBody>
          <a:bodyPr lIns="45720" rIns="45720" tIns="0" bIns="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lnSpc>
                <a:spcPct val="2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dvocacy Tool  for our classrooms, our schools, and our community</a:t>
            </a:r>
            <a:endParaRPr b="0" lang="en-US" sz="2800" spc="-1" strike="noStrike">
              <a:solidFill>
                <a:srgbClr val="000000"/>
              </a:solidFill>
              <a:latin typeface="Trebuchet MS"/>
            </a:endParaRPr>
          </a:p>
        </p:txBody>
      </p:sp>
      <p:sp>
        <p:nvSpPr>
          <p:cNvPr id="258" name="TextBox 5"/>
          <p:cNvSpPr/>
          <p:nvPr/>
        </p:nvSpPr>
        <p:spPr>
          <a:xfrm>
            <a:off x="380880" y="457200"/>
            <a:ext cx="2210040" cy="5069880"/>
          </a:xfrm>
          <a:prstGeom prst="rect">
            <a:avLst/>
          </a:prstGeom>
          <a:noFill/>
          <a:ln w="0">
            <a:noFill/>
          </a:ln>
        </p:spPr>
        <p:style>
          <a:lnRef idx="0"/>
          <a:fillRef idx="0"/>
          <a:effectRef idx="0"/>
          <a:fontRef idx="minor"/>
        </p:style>
        <p:txBody>
          <a:bodyPr lIns="90000" rIns="90000" tIns="46800" bIns="46800" anchor="t">
            <a:spAutoFit/>
          </a:bodyPr>
          <a:p>
            <a:pPr algn="ct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Arts Advisory Board</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212760" y="317520"/>
            <a:ext cx="7493040" cy="1150920"/>
          </a:xfrm>
          <a:prstGeom prst="rect">
            <a:avLst/>
          </a:prstGeom>
          <a:ln w="0">
            <a:noFill/>
          </a:ln>
        </p:spPr>
      </p:pic>
      <p:sp>
        <p:nvSpPr>
          <p:cNvPr id="260" name=""/>
          <p:cNvSpPr txBox="1"/>
          <p:nvPr/>
        </p:nvSpPr>
        <p:spPr>
          <a:xfrm>
            <a:off x="301320" y="1527120"/>
            <a:ext cx="777564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urpose</a:t>
            </a: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1" marL="520560" indent="-228600">
              <a:spcBef>
                <a:spcPts val="499"/>
              </a:spcBef>
              <a:spcAft>
                <a:spcPts val="1199"/>
              </a:spcAft>
              <a:buClr>
                <a:srgbClr val="f9b63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ncrease awareness of our programs and advocate for the value of the arts</a:t>
            </a:r>
            <a:endParaRPr b="0" lang="en-US" sz="2300" spc="-1" strike="noStrike">
              <a:solidFill>
                <a:srgbClr val="6c6c6c"/>
              </a:solidFill>
              <a:latin typeface="Trebuchet MS"/>
            </a:endParaRPr>
          </a:p>
          <a:p>
            <a:pPr lvl="1" marL="520560" indent="-228600">
              <a:spcBef>
                <a:spcPts val="499"/>
              </a:spcBef>
              <a:spcAft>
                <a:spcPts val="1199"/>
              </a:spcAft>
              <a:buClr>
                <a:srgbClr val="f9b63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identify current &amp; future resources (including community connections)</a:t>
            </a:r>
            <a:endParaRPr b="0" lang="en-US" sz="2300" spc="-1" strike="noStrike">
              <a:solidFill>
                <a:srgbClr val="6c6c6c"/>
              </a:solidFill>
              <a:latin typeface="Trebuchet MS"/>
            </a:endParaRPr>
          </a:p>
          <a:p>
            <a:pPr lvl="1" marL="520560" indent="-228600">
              <a:spcBef>
                <a:spcPts val="499"/>
              </a:spcBef>
              <a:spcAft>
                <a:spcPts val="1199"/>
              </a:spcAft>
              <a:buClr>
                <a:srgbClr val="f9b63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ddress specific needs with possible solutions (including best practices)</a:t>
            </a:r>
            <a:endParaRPr b="0" lang="en-US" sz="2300" spc="-1" strike="noStrike">
              <a:solidFill>
                <a:srgbClr val="6c6c6c"/>
              </a:solidFill>
              <a:latin typeface="Trebuchet MS"/>
            </a:endParaRPr>
          </a:p>
          <a:p>
            <a:pPr lvl="1" marL="520560" indent="-228600">
              <a:spcBef>
                <a:spcPts val="499"/>
              </a:spcBef>
              <a:spcAft>
                <a:spcPts val="1199"/>
              </a:spcAft>
              <a:buClr>
                <a:srgbClr val="f9b63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help establish long-term goals to ensure the health of all the arts programs </a:t>
            </a:r>
            <a:endParaRPr b="0" lang="en-US" sz="2300" spc="-1" strike="noStrike">
              <a:solidFill>
                <a:srgbClr val="6c6c6c"/>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12760" y="317520"/>
            <a:ext cx="7493040" cy="1150920"/>
          </a:xfrm>
          <a:prstGeom prst="rect">
            <a:avLst/>
          </a:prstGeom>
          <a:ln w="0">
            <a:noFill/>
          </a:ln>
        </p:spPr>
      </p:pic>
      <p:sp>
        <p:nvSpPr>
          <p:cNvPr id="262" name=""/>
          <p:cNvSpPr txBox="1"/>
          <p:nvPr/>
        </p:nvSpPr>
        <p:spPr>
          <a:xfrm>
            <a:off x="301680" y="1527120"/>
            <a:ext cx="7851600" cy="4873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eacher leader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in each Arts content area</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cross grade levels</a:t>
            </a:r>
            <a:endParaRPr b="0" lang="en-US" sz="21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munity Arts Organizations</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United Arts &amp; City of Raleigh Arts Commission</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Municipalities – local arts councils, government agencies</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Arts organizations (invite organizations with education focus)</a:t>
            </a:r>
            <a:endParaRPr b="0" lang="en-US" sz="21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hool System Administration</a:t>
            </a:r>
            <a:endParaRPr b="0" lang="en-US" sz="24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Principals</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Central Services</a:t>
            </a:r>
            <a:endParaRPr b="0" lang="en-US" sz="21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c6c6c"/>
                </a:solidFill>
                <a:latin typeface="Trebuchet MS"/>
              </a:rPr>
              <a:t>School Board members</a:t>
            </a:r>
            <a:endParaRPr b="0" lang="en-US" sz="21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228600" y="2590560"/>
            <a:ext cx="7848720" cy="2282760"/>
          </a:xfrm>
          <a:prstGeom prst="rect">
            <a:avLst/>
          </a:prstGeom>
          <a:noFill/>
          <a:ln w="0">
            <a:noFill/>
          </a:ln>
        </p:spPr>
        <p:txBody>
          <a:bodyPr lIns="90000" rIns="90000" tIns="46800" bIns="46800" anchor="t">
            <a:normAutofit/>
          </a:bodyPr>
          <a:p>
            <a:pPr marL="272880" indent="-272880">
              <a:spcBef>
                <a:spcPts val="601"/>
              </a:spcBef>
              <a:spcAft>
                <a:spcPts val="1800"/>
              </a:spcAft>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mplete the survey with your departmen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oogle Survey from </a:t>
            </a:r>
            <a:endParaRPr b="0" lang="en-US" sz="26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6c6c6c"/>
                </a:solidFill>
                <a:latin typeface="Trebuchet MS"/>
              </a:rPr>
              <a:t>Artsedwakeartsed @ gmail.com</a:t>
            </a:r>
            <a:endParaRPr b="0" lang="en-US" sz="2300" spc="-1" strike="noStrike">
              <a:solidFill>
                <a:srgbClr val="6c6c6c"/>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 name="TextBox 5"/>
          <p:cNvSpPr/>
          <p:nvPr/>
        </p:nvSpPr>
        <p:spPr>
          <a:xfrm>
            <a:off x="380880" y="457200"/>
            <a:ext cx="2133720" cy="263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Logistic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Literacy Credi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Rectangle 4"/>
          <p:cNvSpPr/>
          <p:nvPr/>
        </p:nvSpPr>
        <p:spPr>
          <a:xfrm>
            <a:off x="2970360" y="1284120"/>
            <a:ext cx="5411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cy Credit (1.0 uni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cy in the Arts Wiki - SRN 125102301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onl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cy for the 21</a:t>
            </a:r>
            <a:r>
              <a:rPr b="0" lang="en-US" sz="1800" spc="-1" strike="noStrike" baseline="30000">
                <a:solidFill>
                  <a:srgbClr val="ffffff"/>
                </a:solidFill>
                <a:latin typeface="Arial"/>
              </a:rPr>
              <a:t>st</a:t>
            </a:r>
            <a:r>
              <a:rPr b="0" lang="en-US" sz="1800" spc="-1" strike="noStrike">
                <a:solidFill>
                  <a:srgbClr val="ffffff"/>
                </a:solidFill>
                <a:latin typeface="Arial"/>
              </a:rPr>
              <a:t> Century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room Theory &amp; Practice SRN 127509401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e-to-Face &amp; Onlin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help?  Respond on Google Survey and/or Email L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55600" y="317520"/>
            <a:ext cx="745020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15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ttT Day 3 - Online Modules </a:t>
            </a:r>
            <a:endParaRPr b="0" lang="en-US" sz="2600" spc="-1" strike="noStrike">
              <a:solidFill>
                <a:srgbClr val="000000"/>
              </a:solidFill>
              <a:latin typeface="Trebuchet MS"/>
            </a:endParaRPr>
          </a:p>
          <a:p>
            <a:pPr lvl="1" marL="743040" indent="-28584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Great job on Interpretation Charts!</a:t>
            </a:r>
            <a:endParaRPr b="0" lang="en-US" sz="2200" spc="-1" strike="noStrike">
              <a:solidFill>
                <a:srgbClr val="6c6c6c"/>
              </a:solidFill>
              <a:latin typeface="Trebuchet MS"/>
            </a:endParaRPr>
          </a:p>
          <a:p>
            <a:pPr lvl="1" marL="743040" indent="-28584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Administration may ask me for a list so if you haven’t completed it you might want to do that by 3/1/12</a:t>
            </a:r>
            <a:endParaRPr b="0" lang="en-US" sz="2200" spc="-1" strike="noStrike">
              <a:solidFill>
                <a:srgbClr val="6c6c6c"/>
              </a:solidFill>
              <a:latin typeface="Trebuchet MS"/>
            </a:endParaRPr>
          </a:p>
          <a:p>
            <a:pPr lvl="1" marL="743040" indent="-285840">
              <a:lnSpc>
                <a:spcPct val="9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Feedback on the Google Survey</a:t>
            </a:r>
            <a:endParaRPr b="0" lang="en-US" sz="2200" spc="-1" strike="noStrike">
              <a:solidFill>
                <a:srgbClr val="6c6c6c"/>
              </a:solidFill>
              <a:latin typeface="Trebuchet MS"/>
            </a:endParaRPr>
          </a:p>
          <a:p>
            <a:pPr marL="272880" indent="-272880">
              <a:lnSpc>
                <a:spcPct val="15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ssential Standards - Online Modules</a:t>
            </a:r>
            <a:endParaRPr b="0" lang="en-US" sz="2600" spc="-1" strike="noStrike">
              <a:solidFill>
                <a:srgbClr val="000000"/>
              </a:solidFill>
              <a:latin typeface="Trebuchet MS"/>
            </a:endParaRPr>
          </a:p>
          <a:p>
            <a:pPr lvl="1" marL="743040" indent="-285840">
              <a:lnSpc>
                <a:spcPct val="6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4 Literacy Strands is Posted - take a look!</a:t>
            </a:r>
            <a:endParaRPr b="0" lang="en-US" sz="2200" spc="-1" strike="noStrike">
              <a:solidFill>
                <a:srgbClr val="6c6c6c"/>
              </a:solidFill>
              <a:latin typeface="Trebuchet MS"/>
            </a:endParaRPr>
          </a:p>
          <a:p>
            <a:pPr marL="272880" indent="-272880">
              <a:lnSpc>
                <a:spcPct val="15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ditional Resources  </a:t>
            </a:r>
            <a:endParaRPr b="0" lang="en-US" sz="2600" spc="-1" strike="noStrike">
              <a:solidFill>
                <a:srgbClr val="000000"/>
              </a:solidFill>
              <a:latin typeface="Trebuchet MS"/>
            </a:endParaRPr>
          </a:p>
          <a:p>
            <a:pPr lvl="1" marL="743040" indent="-285840">
              <a:lnSpc>
                <a:spcPct val="7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Essential Standards Spreadsheet </a:t>
            </a:r>
            <a:endParaRPr b="0" lang="en-US" sz="2200" spc="-1" strike="noStrike">
              <a:solidFill>
                <a:srgbClr val="6c6c6c"/>
              </a:solidFill>
              <a:latin typeface="Trebuchet MS"/>
            </a:endParaRPr>
          </a:p>
          <a:p>
            <a:pPr lvl="1" marL="743040" indent="-285840">
              <a:lnSpc>
                <a:spcPct val="70000"/>
              </a:lnSpc>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c6c6c"/>
                </a:solidFill>
                <a:latin typeface="Georgia"/>
              </a:rPr>
              <a:t>“</a:t>
            </a:r>
            <a:r>
              <a:rPr b="0" lang="en-US" sz="2200" spc="-1" strike="noStrike">
                <a:solidFill>
                  <a:srgbClr val="6c6c6c"/>
                </a:solidFill>
                <a:latin typeface="Georgia"/>
              </a:rPr>
              <a:t>I Can” statements</a:t>
            </a:r>
            <a:endParaRPr b="0" lang="en-US" sz="2200" spc="-1" strike="noStrike">
              <a:solidFill>
                <a:srgbClr val="6c6c6c"/>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971440" y="380880"/>
            <a:ext cx="4800600" cy="5486400"/>
          </a:xfrm>
          <a:prstGeom prst="rect">
            <a:avLst/>
          </a:prstGeom>
          <a:noFill/>
          <a:ln w="0">
            <a:noFill/>
          </a:ln>
        </p:spPr>
        <p:txBody>
          <a:bodyPr lIns="45720" rIns="4572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day Summer Institute </a:t>
            </a: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upport the implementation of Common Core / Essential Standards. </a:t>
            </a: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Google survey </a:t>
            </a: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eeds &amp; Level of Interest</a:t>
            </a: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 obligation</a:t>
            </a:r>
            <a:endParaRPr b="0" lang="en-US" sz="2200" spc="-1" strike="noStrike">
              <a:solidFill>
                <a:srgbClr val="000000"/>
              </a:solidFill>
              <a:latin typeface="Trebuchet MS"/>
            </a:endParaRPr>
          </a:p>
        </p:txBody>
      </p:sp>
      <p:sp>
        <p:nvSpPr>
          <p:cNvPr id="269" name="TextBox 5"/>
          <p:cNvSpPr/>
          <p:nvPr/>
        </p:nvSpPr>
        <p:spPr>
          <a:xfrm>
            <a:off x="380880" y="457200"/>
            <a:ext cx="2133720" cy="344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Logistic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46d7a"/>
                </a:solidFill>
                <a:latin typeface="Georgia"/>
              </a:rPr>
              <a:t>Summer Curriculum Institute</a:t>
            </a: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1" name="TextBox 5"/>
          <p:cNvSpPr/>
          <p:nvPr/>
        </p:nvSpPr>
        <p:spPr>
          <a:xfrm>
            <a:off x="380880" y="457200"/>
            <a:ext cx="2133720" cy="75070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Info sharing with school based colleague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Rectangle 4"/>
          <p:cNvSpPr/>
          <p:nvPr/>
        </p:nvSpPr>
        <p:spPr>
          <a:xfrm>
            <a:off x="2970360" y="1284120"/>
            <a:ext cx="5411520" cy="362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review of PP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ine Modules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and Implementing the new Arts Education Essential Standards, K-12</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RN 1251038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4" name="TextBox 5"/>
          <p:cNvSpPr/>
          <p:nvPr/>
        </p:nvSpPr>
        <p:spPr>
          <a:xfrm>
            <a:off x="380880" y="457200"/>
            <a:ext cx="2210040" cy="4925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6d7a"/>
                </a:solidFill>
                <a:latin typeface="Georgia"/>
              </a:rPr>
              <a:t>Thank you for your continued leadership &amp; exceptional teaching!</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4"/>
          <p:cNvSpPr/>
          <p:nvPr/>
        </p:nvSpPr>
        <p:spPr>
          <a:xfrm>
            <a:off x="2971800" y="762120"/>
            <a:ext cx="5564160" cy="544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ssion Objectives: </a:t>
            </a:r>
            <a:endParaRPr b="0" lang="en-US" sz="24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Core/Essential Standards Updates</a:t>
            </a:r>
            <a:endParaRPr b="0" lang="en-US" sz="16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ase understanding about New Course Codes</a:t>
            </a:r>
            <a:endParaRPr b="0" lang="en-US" sz="16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ment of an Arts Advisory Board </a:t>
            </a:r>
            <a:endParaRPr b="0" lang="en-US" sz="1600" spc="-1" strike="noStrike">
              <a:solidFill>
                <a:srgbClr val="000000"/>
              </a:solidFill>
              <a:latin typeface="Arial"/>
            </a:endParaRPr>
          </a:p>
          <a:p>
            <a:pPr>
              <a:lnSpc>
                <a:spcPct val="1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stics </a:t>
            </a: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teracy credit</a:t>
            </a: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mmer Curriculum Institute</a:t>
            </a: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ormation sharing with school-based colleagues</a:t>
            </a: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on’t forget to complete th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OGLE Survey!!!</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End – Thanks a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371600" y="2819520"/>
            <a:ext cx="6400800" cy="914400"/>
          </a:xfrm>
          <a:prstGeom prst="rect">
            <a:avLst/>
          </a:prstGeom>
          <a:noFill/>
          <a:ln w="0">
            <a:noFill/>
          </a:ln>
        </p:spPr>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 name="TextBox 5"/>
          <p:cNvSpPr/>
          <p:nvPr/>
        </p:nvSpPr>
        <p:spPr>
          <a:xfrm>
            <a:off x="380880" y="457200"/>
            <a:ext cx="2133720" cy="409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Cours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Chang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in th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6d7a"/>
                </a:solidFill>
                <a:latin typeface="Georgia"/>
              </a:rPr>
              <a:t>Art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Rectangle 4"/>
          <p:cNvSpPr/>
          <p:nvPr/>
        </p:nvSpPr>
        <p:spPr>
          <a:xfrm>
            <a:off x="2970360" y="1284120"/>
            <a:ext cx="541152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 Awareness</a:t>
            </a:r>
            <a:r>
              <a:rPr b="0" lang="en-US" sz="2400" spc="-1" strike="noStrike">
                <a:solidFill>
                  <a:srgbClr val="ffffff"/>
                </a:solidFill>
                <a:latin typeface="Arial"/>
              </a:rPr>
              <a:t> </a:t>
            </a:r>
            <a:endParaRPr b="0" lang="en-US" sz="2400" spc="-1" strike="noStrike">
              <a:solidFill>
                <a:srgbClr val="000000"/>
              </a:solidFill>
              <a:latin typeface="Arial"/>
            </a:endParaRPr>
          </a:p>
          <a:p>
            <a:pPr lvl="1" marL="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llenges &amp; Benefits</a:t>
            </a:r>
            <a:endParaRPr b="0" lang="en-US" sz="2000" spc="-1" strike="noStrike">
              <a:solidFill>
                <a:srgbClr val="000000"/>
              </a:solidFill>
              <a:latin typeface="Arial"/>
            </a:endParaRPr>
          </a:p>
          <a:p>
            <a:pPr lvl="1" marL="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mplications for Teachers, Students, Guidance staff</a:t>
            </a:r>
            <a:r>
              <a:rPr b="0" lang="en-US" sz="2400" spc="-1" strike="noStrike">
                <a:solidFill>
                  <a:srgbClr val="ffffff"/>
                </a:solidFill>
                <a:latin typeface="Arial"/>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 mechanisms for suppo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swer 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Title 1" descr=""/>
          <p:cNvPicPr/>
          <p:nvPr/>
        </p:nvPicPr>
        <p:blipFill>
          <a:blip r:embed="rId1"/>
          <a:stretch/>
        </p:blipFill>
        <p:spPr>
          <a:xfrm>
            <a:off x="450720" y="225360"/>
            <a:ext cx="7255080" cy="1243080"/>
          </a:xfrm>
          <a:prstGeom prst="rect">
            <a:avLst/>
          </a:prstGeom>
          <a:ln w="0">
            <a:noFill/>
          </a:ln>
        </p:spPr>
      </p:pic>
      <p:sp>
        <p:nvSpPr>
          <p:cNvPr id="236" name=""/>
          <p:cNvSpPr txBox="1"/>
          <p:nvPr/>
        </p:nvSpPr>
        <p:spPr>
          <a:xfrm>
            <a:off x="301320" y="1527120"/>
            <a:ext cx="8504280" cy="457200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ss than ideal timing (Quick &amp; Late)</a:t>
            </a:r>
            <a:endParaRPr b="0" lang="en-US" sz="2800" spc="-1" strike="noStrike">
              <a:solidFill>
                <a:srgbClr val="000000"/>
              </a:solidFill>
              <a:latin typeface="Trebuchet MS"/>
            </a:endParaRPr>
          </a:p>
          <a:p>
            <a:pPr marL="272880" indent="-272880">
              <a:lnSpc>
                <a:spcPct val="1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iting State Board Approval</a:t>
            </a:r>
            <a:r>
              <a:rPr b="0" lang="en-US" sz="2400" spc="-1" strike="noStrike">
                <a:solidFill>
                  <a:srgbClr val="000000"/>
                </a:solidFill>
                <a:latin typeface="Georgia"/>
              </a:rPr>
              <a:t> (</a:t>
            </a:r>
            <a:r>
              <a:rPr b="0" lang="en-US" sz="2000" spc="-1" strike="noStrike">
                <a:solidFill>
                  <a:srgbClr val="000000"/>
                </a:solidFill>
                <a:latin typeface="Georgia"/>
              </a:rPr>
              <a:t>Expected March 2012)</a:t>
            </a:r>
            <a:endParaRPr b="0" lang="en-US" sz="2000" spc="-1" strike="noStrike">
              <a:solidFill>
                <a:srgbClr val="000000"/>
              </a:solidFill>
              <a:latin typeface="Trebuchet MS"/>
            </a:endParaRPr>
          </a:p>
          <a:p>
            <a:pPr marL="272880" indent="-272880">
              <a:lnSpc>
                <a:spcPct val="1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igned to an unfamiliar curriculum</a:t>
            </a:r>
            <a:endParaRPr b="0" lang="en-US" sz="2800" spc="-1" strike="noStrike">
              <a:solidFill>
                <a:srgbClr val="000000"/>
              </a:solidFill>
              <a:latin typeface="Trebuchet MS"/>
            </a:endParaRPr>
          </a:p>
          <a:p>
            <a:pPr marL="272880" indent="-272880">
              <a:lnSpc>
                <a:spcPct val="1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ff exhaustion</a:t>
            </a:r>
            <a:endParaRPr b="0" lang="en-US" sz="28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450720" y="298440"/>
            <a:ext cx="7255080" cy="11700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hange # 1 - Aligned with new Essential Standards</a:t>
            </a:r>
            <a:endParaRPr b="0" lang="en-US" sz="26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ning</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mediate</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ficient &gt; HONORS - weighted credit</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vanced &gt; HONORS - weighted credit</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hange # 2 - Honors Limit - Lifted</a:t>
            </a:r>
            <a:endParaRPr b="0" lang="en-US" sz="26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evious limit of 2 credits lifted approved</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ll Proficient &amp; Advanced courses &gt; Honors</a:t>
            </a:r>
            <a:endParaRPr b="0" lang="en-US" sz="2000" spc="-1" strike="noStrike">
              <a:solidFill>
                <a:srgbClr val="000000"/>
              </a:solidFill>
              <a:latin typeface="Trebuchet MS"/>
            </a:endParaRPr>
          </a:p>
          <a:p>
            <a:pPr lvl="2" marL="758880" indent="-228600">
              <a:lnSpc>
                <a:spcPct val="10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Y repeat honors courses for credit</a:t>
            </a:r>
            <a:endParaRPr b="0" lang="en-US" sz="20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Rectangle 2" descr=""/>
          <p:cNvPicPr/>
          <p:nvPr/>
        </p:nvPicPr>
        <p:blipFill>
          <a:blip r:embed="rId1"/>
          <a:stretch/>
        </p:blipFill>
        <p:spPr>
          <a:xfrm>
            <a:off x="244440" y="298440"/>
            <a:ext cx="7461360" cy="1170000"/>
          </a:xfrm>
          <a:prstGeom prst="rect">
            <a:avLst/>
          </a:prstGeom>
          <a:ln w="0">
            <a:noFill/>
          </a:ln>
        </p:spPr>
      </p:pic>
      <p:sp>
        <p:nvSpPr>
          <p:cNvPr id="240" name=""/>
          <p:cNvSpPr txBox="1"/>
          <p:nvPr/>
        </p:nvSpPr>
        <p:spPr>
          <a:xfrm>
            <a:off x="457200" y="1609200"/>
            <a:ext cx="7238880" cy="4846680"/>
          </a:xfrm>
          <a:prstGeom prst="rect">
            <a:avLst/>
          </a:prstGeom>
          <a:noFill/>
          <a:ln w="0">
            <a:noFill/>
          </a:ln>
        </p:spPr>
        <p:txBody>
          <a:bodyPr lIns="90000" rIns="90000" tIns="46800" bIns="46800"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hange # 3 - Electives Recoded - Specialty</a:t>
            </a:r>
            <a:endParaRPr b="0" lang="en-US" sz="21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Levels determined locally</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Based on previous pre-requisites</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Recoded existing courses</a:t>
            </a:r>
            <a:endParaRPr b="0" lang="en-US" sz="1700" spc="-1" strike="noStrike">
              <a:solidFill>
                <a:srgbClr val="000000"/>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Georgia"/>
              </a:rPr>
              <a:t>Sculpture/Ceramics I - rec.pre-req Art I/portfolio = Intermediate</a:t>
            </a:r>
            <a:endParaRPr b="0" lang="en-US" sz="1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Georgia"/>
              </a:rPr>
              <a:t>Sculpture/CeramicsII- rec.pre-req S/CI = Proficient (honors)</a:t>
            </a:r>
            <a:endParaRPr b="0" lang="en-US" sz="1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Georgia"/>
              </a:rPr>
              <a:t>Sculpture/CermaicsIII-rec.pre-req S/CII= Advanced (honors)</a:t>
            </a:r>
            <a:endParaRPr b="0" lang="en-US" sz="1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c6c6c"/>
                </a:solidFill>
                <a:latin typeface="Georgia"/>
              </a:rPr>
              <a:t>Independent Study = Advanced</a:t>
            </a:r>
            <a:endParaRPr b="0" lang="en-US" sz="1900" spc="-1" strike="noStrike">
              <a:solidFill>
                <a:srgbClr val="6c6c6c"/>
              </a:solidFill>
              <a:latin typeface="Trebuchet MS"/>
            </a:endParaRPr>
          </a:p>
          <a:p>
            <a:pPr lvl="1" marL="515160" indent="-226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c6c6c"/>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eorgia"/>
              </a:rPr>
              <a:t>Change # 4 - Appropriate Placement</a:t>
            </a:r>
            <a:endParaRPr b="0" lang="en-US" sz="21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If K-8 Progression(middle school band) - may qualify for Intermediate</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Communication between middle/high staff</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Standardized Placement expectations</a:t>
            </a:r>
            <a:endParaRPr b="0" lang="en-US" sz="1700" spc="-1" strike="noStrike">
              <a:solidFill>
                <a:srgbClr val="000000"/>
              </a:solidFill>
              <a:latin typeface="Trebuchet MS"/>
            </a:endParaRPr>
          </a:p>
          <a:p>
            <a:pPr lvl="2" marL="750960" indent="-226080">
              <a:lnSpc>
                <a:spcPct val="80000"/>
              </a:lnSpc>
              <a:spcBef>
                <a:spcPts val="400"/>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eorgia"/>
              </a:rPr>
              <a:t>Essential Standards Spreadsheet-Benchmarks - “I Can” documents</a:t>
            </a:r>
            <a:endParaRPr b="0" lang="en-US" sz="1700" spc="-1" strike="noStrike">
              <a:solidFill>
                <a:srgbClr val="000000"/>
              </a:solidFill>
              <a:latin typeface="Trebuchet MS"/>
            </a:endParaRPr>
          </a:p>
          <a:p>
            <a:pPr lvl="2" marL="750960" indent="-226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212760" y="317520"/>
            <a:ext cx="7493040" cy="1150920"/>
          </a:xfrm>
          <a:prstGeom prst="rect">
            <a:avLst/>
          </a:prstGeom>
          <a:ln w="0">
            <a:noFill/>
          </a:ln>
        </p:spPr>
      </p:pic>
      <p:sp>
        <p:nvSpPr>
          <p:cNvPr id="242" name=""/>
          <p:cNvSpPr txBox="1"/>
          <p:nvPr/>
        </p:nvSpPr>
        <p:spPr>
          <a:xfrm>
            <a:off x="-76680" y="1527120"/>
            <a:ext cx="8504280" cy="4572000"/>
          </a:xfrm>
          <a:prstGeom prst="rect">
            <a:avLst/>
          </a:prstGeom>
          <a:noFill/>
          <a:ln w="0">
            <a:noFill/>
          </a:ln>
        </p:spPr>
        <p:txBody>
          <a:bodyPr lIns="90000" rIns="90000" tIns="46800" bIns="46800" anchor="t">
            <a:normAutofit/>
          </a:bodyPr>
          <a:p>
            <a:pPr lvl="1" marL="520560" indent="-22860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Benefits</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Upper Level Courses - Rigorous - Honors</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No Honors limit = level elective field</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Apply skills/understandings in complex &amp; challenging ways - demonstrating their ability, commitment, and artistry.</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212760" y="317520"/>
            <a:ext cx="7493040" cy="1150920"/>
          </a:xfrm>
          <a:prstGeom prst="rect">
            <a:avLst/>
          </a:prstGeom>
          <a:ln w="0">
            <a:noFill/>
          </a:ln>
        </p:spPr>
      </p:pic>
      <p:sp>
        <p:nvSpPr>
          <p:cNvPr id="244" name=""/>
          <p:cNvSpPr txBox="1"/>
          <p:nvPr/>
        </p:nvSpPr>
        <p:spPr>
          <a:xfrm>
            <a:off x="-305280" y="1527120"/>
            <a:ext cx="8504280" cy="4572000"/>
          </a:xfrm>
          <a:prstGeom prst="rect">
            <a:avLst/>
          </a:prstGeom>
          <a:noFill/>
          <a:ln w="0">
            <a:noFill/>
          </a:ln>
        </p:spPr>
        <p:txBody>
          <a:bodyPr lIns="90000" rIns="90000" tIns="46800" bIns="46800" anchor="t">
            <a:normAutofit/>
          </a:bodyPr>
          <a:p>
            <a:pPr lvl="1" marL="520560" indent="-22860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Challenges</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No Regular credit for Levels 3 &amp; 4</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Previous natural sequences are now driven by student achievement of objectives</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Adjustment to Master schedule</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Professional responsible for placement</a:t>
            </a: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Title 1" descr=""/>
          <p:cNvPicPr/>
          <p:nvPr/>
        </p:nvPicPr>
        <p:blipFill>
          <a:blip r:embed="rId1"/>
          <a:stretch/>
        </p:blipFill>
        <p:spPr>
          <a:xfrm>
            <a:off x="244440" y="298440"/>
            <a:ext cx="7461360" cy="1170000"/>
          </a:xfrm>
          <a:prstGeom prst="rect">
            <a:avLst/>
          </a:prstGeom>
          <a:ln w="0">
            <a:noFill/>
          </a:ln>
        </p:spPr>
      </p:pic>
      <p:sp>
        <p:nvSpPr>
          <p:cNvPr id="246" name=""/>
          <p:cNvSpPr txBox="1"/>
          <p:nvPr/>
        </p:nvSpPr>
        <p:spPr>
          <a:xfrm>
            <a:off x="457200" y="1609200"/>
            <a:ext cx="7238880" cy="4846680"/>
          </a:xfrm>
          <a:prstGeom prst="rect">
            <a:avLst/>
          </a:prstGeom>
          <a:noFill/>
          <a:ln w="0">
            <a:noFill/>
          </a:ln>
        </p:spPr>
        <p:txBody>
          <a:bodyPr lIns="90000" rIns="90000" tIns="46800" bIns="46800" anchor="t">
            <a:normAutofit/>
          </a:bodyPr>
          <a:p>
            <a:pPr lvl="1" marL="520560" indent="-228600">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Information to API’s, Teachers &amp; Deans</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Frequently Asked Questions</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Course Sequencing Charts</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Standards Spreadsheet</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a:t>
            </a:r>
            <a:r>
              <a:rPr b="0" lang="en-US" sz="3200" spc="-1" strike="noStrike">
                <a:solidFill>
                  <a:srgbClr val="6c6c6c"/>
                </a:solidFill>
                <a:latin typeface="Trebuchet MS"/>
                <a:ea typeface="Arial"/>
              </a:rPr>
              <a:t>I Can” Documents</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c6c6c"/>
                </a:solidFill>
                <a:latin typeface="Trebuchet MS"/>
                <a:ea typeface="Arial"/>
              </a:rPr>
              <a:t>Common Assessments for Placement</a:t>
            </a:r>
            <a:endParaRPr b="0" lang="en-US" sz="3200" spc="-1" strike="noStrike">
              <a:solidFill>
                <a:srgbClr val="6c6c6c"/>
              </a:solidFill>
              <a:latin typeface="Trebuchet MS"/>
            </a:endParaRPr>
          </a:p>
          <a:p>
            <a:pPr lvl="1" marL="520560" indent="-228600">
              <a:lnSpc>
                <a:spcPct val="90000"/>
              </a:lnSpc>
              <a:spcBef>
                <a:spcPts val="499"/>
              </a:spcBef>
              <a:spcAft>
                <a:spcPts val="1199"/>
              </a:spcAft>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lnSpc>
                <a:spcPct val="9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a:p>
            <a:pPr lvl="1" marL="520560" indent="-228600">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9T15:40:04Z</dcterms:created>
  <dc:creator>Chris Droessler</dc:creator>
  <dc:description/>
  <dc:language>en-US</dc:language>
  <cp:lastModifiedBy>Chris Droessler</cp:lastModifiedBy>
  <dcterms:modified xsi:type="dcterms:W3CDTF">2012-02-16T17:06:30Z</dcterms:modified>
  <cp:revision>37</cp:revision>
  <dc:subject/>
  <dc:title>PowerPoint Presentation</dc:title>
</cp:coreProperties>
</file>